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FDB4-956F-486B-A12E-26CF04C1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B5BE-2450-4151-914D-12DE43DA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5B2-0595-496B-A40D-1BF85551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2FD3-2DFD-4715-BCF3-8FEAE6A8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1407-6E81-4AA0-830C-7A497708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9624-D1B5-4F87-ABA5-94D54C03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22FF-0173-470B-9442-65D421E8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D92F-3784-49F3-BD03-3B2077B3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ABA7-CB5C-4B15-94D0-00F7C9EA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7A7E-B35D-4511-8316-491CA365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6C37-C58E-4955-8A58-02EB8E2D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50BA-296D-4D00-A904-6922449A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1998-392A-40A3-B18F-BC7F0199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1188-7840-4DA1-B61C-E6C89E59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36CD-BF1B-45A5-8482-6BB07BE7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4E98-72C2-4231-B983-6B60C290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AD9B-4948-40C4-ACBE-8D90B44C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A013-4B32-4560-B0A0-6A928525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CFF-3D11-4C31-AF8F-4CCD14EB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3EE9-CB3D-4F3B-BE9C-2FD7A405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2F8-55DA-40F2-9365-8998DAF0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653C-5450-4367-902D-731387F4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D78-08EF-45D7-BACE-1475727B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0C32-A9E1-4523-88A5-AF7D95C5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4C4B-59BF-47BD-8A40-8145D6D4B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4A7D-94AE-4617-B6CC-38615A885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medicinehealth.com/bacterial_pneumonia/page7_em.htm" TargetMode="External"/><Relationship Id="rId3" Type="http://schemas.openxmlformats.org/officeDocument/2006/relationships/hyperlink" Target="http://www.emedicinehealth.com/bacterial_pneumonia/page9_em.htm" TargetMode="External"/><Relationship Id="rId4" Type="http://schemas.openxmlformats.org/officeDocument/2006/relationships/hyperlink" Target="http://www.emedicinehealth.com/bacterial_pneumonia/page2_em.h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520" y="11430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Arial"/>
              </a:rPr>
              <a:t>Pneumon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6578640" cy="363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828440" y="2971440"/>
            <a:ext cx="6705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neumonia fills the lung’s alveoli with fluid which keeps the oxygen from reaching the bloodstre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16002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What is Pneumon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9903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Symp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ical pneumonia comes on very quick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usually have a high fever and shaking chi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you cough, your sputum is yellow or br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may have chest pain, which is usually worse with breathing or coughing. Your chest also may be sore when you touch or press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may be very short of breath, especially if you have any chronic lung conditions such as asthma or emphyse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chest pain also can be a sign of other serious medical conditions, do not try to diagnose your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3720" y="9903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reat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76520" y="1980720"/>
            <a:ext cx="7162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re diagnosed with bacterial pneumonia you will have to take antibiotic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inking lots of nonalcoholic fluids help you feel better and recover fas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cause coughing helps clear infection out of your lungs, your doctor may recommend that you not use a cough suppress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must avoid cigarette or other tobacco smoke while you recover from pneumonia. Smoking hurts your body's ability to fight infection and makes your healing process take a lot lon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r pneumonia is very severe, you may need a breathing tube in your windpipe so that a machine can do the work of breathing for yo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How To Prevent Pneumonia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eumonia  can be prevented by taking certain vaccine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eumovax is an immunization to pr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ptococcus pneumonia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ection. You should get this shot if you are older than 65 years, or 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pleen was removed for any reason. You should also get this shot if your spleen doesn't work right, for instance, if you have sickle cell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MacintoshHD:Users:student:Movies:Pneumonia.mov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Bibliograph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www.emedicinehealth.com/bacterial_pneumonia/page7_em.h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ttp://www.emedicinehealth.com/bacterial_pneumonia/page9_em.h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http://www.emedicinehealth.com/bacterial_pneumonia/page2_em.ht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6:39:43Z</dcterms:created>
  <dc:creator>NYCDOE</dc:creator>
  <dc:description/>
  <dc:language>en-US</dc:language>
  <cp:lastModifiedBy>NYCDOE</cp:lastModifiedBy>
  <dcterms:modified xsi:type="dcterms:W3CDTF">2007-06-21T14:39:05Z</dcterms:modified>
  <cp:revision>8</cp:revision>
  <dc:subject/>
  <dc:title>Pneumonia</dc:title>
</cp:coreProperties>
</file>